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343080" indent="-343080">
              <a:spcBef>
                <a:spcPts val="700"/>
              </a:spcBef>
              <a:buClr>
                <a:srgbClr val="33339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" name=""/>
          <p:cNvSpPr/>
          <p:nvPr/>
        </p:nvSpPr>
        <p:spPr>
          <a:xfrm>
            <a:off x="842040" y="62946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A Gift of Fire, 2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11280" y="6294600"/>
            <a:ext cx="343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apter 2: Privacy and Pers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70800" y="6294600"/>
            <a:ext cx="93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A487-2F3A-44EC-AF67-F1A2DEB0B49C}" type="slidenum">
              <a:rPr b="0" lang="en-US" sz="12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owerPoin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alatino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Slides to Accompan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"/>
              </a:rPr>
              <a:t>A Gift of Fire</a:t>
            </a:r>
            <a:r>
              <a:rPr b="1" i="1" lang="en-US" sz="2800" spc="-1" strike="noStrike">
                <a:solidFill>
                  <a:srgbClr val="000000"/>
                </a:solidFill>
                <a:latin typeface="Palatino"/>
              </a:rPr>
              <a:t>: Social, Legal, and Ethical Issues for Computers and the Interne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(2nd Edition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 Sara Baase</a:t>
            </a:r>
            <a:endParaRPr b="0" lang="en-US" sz="20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an Diego State Universit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owerPoint slides created by Sherry Clark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opyright 2003 Prentice Hall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Big Brother is Watching You”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4</a:t>
            </a:r>
            <a:r>
              <a:rPr b="0" lang="en-US" sz="1800" spc="-1" strike="noStrike" baseline="30000">
                <a:solidFill>
                  <a:srgbClr val="993300"/>
                </a:solidFill>
                <a:latin typeface="Palatino"/>
              </a:rPr>
              <a:t>th</a:t>
            </a: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 Amendmen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pectation of Privac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’s rights are limit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must have probable cause to search private premises or seize docume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Challeng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ew sensing and surveillance technologies enable the government access to private premises without physical ent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ew technologies provide the government with access to huge amounts of personal data in business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urts allow some searches and seizures of computers without search warra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7913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as technology strengthened or weakened the spirit of the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mendm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sumer Databas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athering Inform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arranty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rchasing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embership l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 activ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hange-of-address for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715000"/>
            <a:ext cx="6705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ways in which you have contributed to consumer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sumer Databases </a:t>
            </a:r>
            <a:r>
              <a:rPr b="0" lang="en-US" sz="18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miting Collection, Use, Sharing, and Sale of Personal Data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umers can take measures to restrict the use of their person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information sharing is prohibit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information sharing is prohibited by published,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4120"/>
            <a:ext cx="68580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measures do you take to limit consumer information gathered about yo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arketing: Using Consumer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ading/buying customer l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ele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ta Min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ss-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 a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pam (unsolicited e-mail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715000"/>
            <a:ext cx="6934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are children affected by marketers using consumer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redit Bureau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s of consumer inform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valuate credit risk of applica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gul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CRA (Fair Credit Reporting Act)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lf-regulated by privacy principl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71500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f you are denied credit, what are your rights based on the FC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ocial Security Numbers (SSNs)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ppear i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mployer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chool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repor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umer applic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ny other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5715000"/>
            <a:ext cx="5029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are the risks of using SSNs as identifi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National ID Card Syste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f implemented, the card could contain your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am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dres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elephone number(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hoto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S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715000"/>
            <a:ext cx="6782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other personal information should a national ID card conta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National ID Card Syste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f implemented, the system could allow access to your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edic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ax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itizenship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histo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715000"/>
            <a:ext cx="632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re the benefits of a national ID system greater than the ris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ersonal Health and Medical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ata can includ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istory of substance abu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eatment for sexually transmitted disea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xtent of psychiatric help receiv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y suicide attempt(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iagnosis of diseases (diabetes, angina, cancer, etc.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f prescribed medici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5715000"/>
            <a:ext cx="655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y would marketers want access to your medic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ublic Record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vailable in paper form and/or onlin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ankrupt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rres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rriage-license applic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ivorce proceeding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operty ownership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lary (if employed by state or federal government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ills and Tru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715000"/>
            <a:ext cx="5334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access to public records be controll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cc"/>
                </a:solidFill>
                <a:latin typeface="Palatino"/>
              </a:rPr>
              <a:t>A Gift of Fire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ivacy and Personal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he Impact of Computer Technolog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ig Brother is Watching You”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nsumer Informa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ore Privacy Risk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tecting Privacy: Education, Technology, and Market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tecting Privacy: Law and Regula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duc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ust include awareness of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he technology work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he technology is being us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risks brought on by the technolog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o limit unwanted use of person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pplicable state and federal laws and regul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715000"/>
            <a:ext cx="632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do you limit unwanted use of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echnolog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nhance privacy using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okie disabl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pt-in/opt-out op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onymous Web servi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3P (Platform for Privacy Preference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‘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od’ passw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udit trai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715000"/>
            <a:ext cx="594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privacy-enhancing technology do you use regular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arket Respons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rkets can protect your privacy b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ing trusted third part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hering to established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rchasing consumer information directly from the consum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veloping and selling privacy-enhancing technologies and servi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ave you read the privacy policies at Web sites you frequ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hilosophical View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muel Warren &amp; Louis Brandei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dividuals have the right to prohibit publication of personal facts and photo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Judith Jarvis Thomps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 distinct right to priva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cy rights result from rights to our property, body, and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ransac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ansactions have two parties, often with conflicting preferences about priva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410080"/>
            <a:ext cx="73915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rights to information about transactions between two parties be assign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sting View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e-market View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parties of a transaction are viewed as equal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uth in information gather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rong reliance on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of speech and commer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nsumer-Protection View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parties of a transaction are viewed differentl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ore stringent consent requirements requir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rong limitations on secondary uses of information requir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egal restrictions on consumer profil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the privacy of consumer transactions be regula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cts and Regulation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Basic Legal Framework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nforce agreements and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blish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t defaults for situations not in contrac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ing Specific Consent polici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here to informed consumer cons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pt-in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egal Regula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rmine effectiveness, direct and hidden costs, and any loss of services or inconvenie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562720"/>
            <a:ext cx="73152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 situation where you exchanged personal information for some benef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cts and Regulations </a:t>
            </a:r>
            <a:r>
              <a:rPr b="0" lang="en-US" sz="18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wnership of personal data. Can an individual ow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acts (e.g. marriage license in public records)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rsonal information (e.g. your date of birth)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edom of speech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ohibiting communication of information may violate the 1</a:t>
            </a:r>
            <a:r>
              <a:rPr b="0" lang="en-US" sz="1400" spc="-1" strike="noStrike" baseline="30000">
                <a:solidFill>
                  <a:srgbClr val="333399"/>
                </a:solidFill>
                <a:latin typeface="Palatino"/>
              </a:rPr>
              <a:t>st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 Amend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en does protecting privacy conflict with freedom of spee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U (European Union) Privacy Regul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ey point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imited collection of personal dat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ta must be up-to-date and destroyed when no longer need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ent for sharing data is requir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nsitive data (e.g. religion) can only be provided with cons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tify consumers about the collection and intended purpose of dat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stricted access and sharing of criminal convic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15000"/>
            <a:ext cx="5181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an the EU’s privacy regulations work in the U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are not needed for the invasion of privacy.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simply make new threats possible and old threats more potent.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ivacy can mean: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from intrus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trol of information about oneself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from surveilla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Invisible Information Gather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tellite surveilla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ller I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800- or 900-number cal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oyalty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-tracking data; cook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er-to-peer monitor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s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15000"/>
            <a:ext cx="64008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example of invisible information gathering about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ary Us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information for a purpose other than the one for which it was obtained. A few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le (or trade) of consumer information to other busines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check by a prospective employ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agency use of consumer databa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410080"/>
            <a:ext cx="75438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occasion when a secondary use of your personal information was ma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 Match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bining and comparing information from more than one database. Some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aring of government agencies’ databases to detect fraud by recipients of government progra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ating consumer dossiers from various business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410080"/>
            <a:ext cx="7239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example of computer matching that has appeared in the ne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ofil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data in computer files to predict likely behaviors of people. Some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usinesses engage in profiling to determine consumer propensity toward a product or servi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agencies use profiling to create descriptions of possible terror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410080"/>
            <a:ext cx="6248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might profiling be used with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onitoring and Track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PS (global positioning system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ell-pho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lackboxes in automobil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 wireless applian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is the impact of GPS-equipped childrens’ wrist wat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Big Brother is Watching You”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ederal Government Databas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rmine eligibility for jobs and progra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duce wast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ct frau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aw enforce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gula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cy Act of 1974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uter Matching and Privacy Protection Act of 1988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71500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ich government databases contains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04:21:54Z</dcterms:created>
  <dc:creator>Prentice Hall</dc:creator>
  <dc:description/>
  <dc:language>en-US</dc:language>
  <cp:lastModifiedBy>Sara Mayers</cp:lastModifiedBy>
  <dcterms:modified xsi:type="dcterms:W3CDTF">2003-06-30T23:24:57Z</dcterms:modified>
  <cp:revision>137</cp:revision>
  <dc:subject/>
  <dc:title>Privacy and Personal Information</dc:title>
</cp:coreProperties>
</file>